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7.png" ContentType="image/png"/>
  <Override PartName="/ppt/media/image9.png" ContentType="image/png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B33-AF7B-4428-A9B5-21EC0557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F40-7952-44C9-A64C-EE8866E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525-B303-4933-AEFA-7FF5D1BF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627-66DE-44AF-85C6-414B5D91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5251-D731-4B6D-8ACF-F5E4FAA5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1F1-9DE3-49DA-A391-A0D52FD6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E31C-EFBF-48FE-A3E3-CF230A59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7D6B-C088-4AAB-AF4C-66BAE16F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CB77-F06C-41B5-B479-1001ADF6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AF3E-8ED8-4A01-8548-B4733209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4894-9298-4CE3-AF62-F33A329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B01-FE67-4D5F-A834-422C03B6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297-CF4A-47EC-AAF1-206BFCC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60B0-2986-4687-AA1A-66602B7A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2C17-5904-496A-9F67-F14525E1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3167-5CC1-43FD-8C9E-BC421835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C5BF-69E5-4B07-96A2-810056DA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6487E-1981-4051-AB7F-0D30F68F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DD582-5C7C-4D13-9025-394DA7B7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AE11-3D3E-49F5-A829-5F7CF2EA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2032-6F42-4B05-905C-8E463BF9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36BE-5AC4-4630-BEC9-9622BC5D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5FE-98CF-481F-A164-2108E813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37B7-1EA8-4D8E-8AEE-F631B67D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D280-C221-44B2-8792-1045B7D5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9BE8-652A-4896-8866-D580B988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18A3-0459-444D-808D-44E8E3B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08F9-531D-4F93-885C-D830CB2C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1DA5-CAE8-4534-82D8-DFCCB873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AEE6-C464-4B4C-81B8-8F71CB0A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EC03-ED24-41CF-A94B-AE6AA495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7AF8-FE67-446A-A78A-9F266986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666D7-2F1A-4C4F-81B8-F9F48265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065-2456-4826-A51A-9F66579D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EFB4-7F29-4549-BA56-25F16BC2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6A46E-EDDE-4637-A132-C528F19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B2A5E-F9E5-46C0-A429-3234FE19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FA7D-EA24-467A-84C8-5C1CCB4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967C-8E88-44B7-9809-D1361DF2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E43AB-C0B9-4204-AAE5-75AF7B7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83F5-A86F-4AF2-B0A5-BF83A649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4176-49F0-440C-BD62-ED6C525B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2AD6E-AE3D-4241-B08C-3D7D1667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ED2AE-310D-4625-B9B2-F57A325D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5A0-83DA-41D5-88BF-079E15FC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B69D6-E8E6-49EF-88AE-7B64CAEA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A820A-0461-4867-8467-FD906C52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55B1-D951-4597-BE3C-46B56D24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F95C-4AE3-44C7-8881-E2B388D6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9FD4-1291-4D59-90E8-CA40B9DD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DCA24-768E-468A-9389-1E56B536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B174D-98FB-45D5-B800-41EEFD53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589D-AD6F-4ED7-B75B-E03983F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2187C-021E-4A86-B116-7CB4EFB1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9EEA-FCAD-4752-A83D-28D3E9F5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0A9-1E4B-4AEE-8D91-E6AF73D1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523B-F6B2-4445-AF92-C26E0D24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AA01E-C5BF-48B7-9C18-3AA4E2E8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20367-DD41-401C-8C27-9A9D5C4B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DF6F-E6A8-4474-8FDD-520CA1A8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7648-6FF5-47E3-A8D1-54FD4AD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40D9-7C6A-4EE1-ADAB-D075AFA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C853-6F26-4BE6-8DB3-8FBF5F48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37FC1-26BB-40AA-A3E4-E89DAA73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3C1E-8B3D-4379-A47A-3FDB17A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6779-3F01-4044-A2FF-0F16987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273-718B-49B3-9461-234894B8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76E4E-931F-4D78-8342-4336FA82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4404-669A-4DE1-9212-E81EFFCB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53B2-3242-4586-A85D-5576318B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1F949-98DA-4DD8-9048-ED524C8F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0E1F-280C-4680-B780-7D2E2F39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35CD-72D8-4C46-970C-77F0A017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B352A-DAB8-47C4-92B2-67F4AD21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8179-E8D7-4EC4-B279-75F1F380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9F531-2B6B-43ED-8918-A8DDE40B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A834B-9B5E-41F0-9E63-BE2E1BE9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75C-3183-4005-9EC7-09F2188F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093EF-7DB8-48FF-89E4-AD99346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2B96-C908-4BF4-A540-FA20E08B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481B5-5A36-494C-BE31-16DBF0E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8169-6A7E-4B44-9EE8-52D00557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357AC-3F30-4365-95F4-B51DE657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1AEDC-8260-460B-9ECA-9D9D94FA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2507F-6AC7-4F16-B008-ED331050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0E68-760D-4050-B1B4-213E6416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DE0F0-F0E2-4624-AF4E-E285B88C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76D8-543A-4ED8-A02E-EBDD777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5BD-6CF2-4464-BE3F-62F13B3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48AF-D57C-4048-B5D7-E7D81A23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596AE-1868-41EE-99F8-0BB62AC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BF9DA-D1F1-491A-90C8-5880EF6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2FB7D-3E8B-4CBE-80B3-B4EA17CF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23DE2-3112-4BE9-B8C3-A72C6E52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B7EAB-ED5A-4167-9820-13179330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2C48C-C4FD-4DBD-8D7D-A2E298FA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291D-E60B-405E-AA20-1B61817D321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1B3F-23FE-4C11-B222-5326FC5F3339}" type="slidenum">
              <a:rPr b="0" lang="en-A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EE23-2084-4488-B21A-FD9224D4CFE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14C3-959B-4FE0-A70E-CA79746D2844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92FF-825F-4EC2-8241-182F18D71D0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46A8-4D07-49D0-BF0C-9941D73A93A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D629-28C2-42A9-BBD0-60D893D5C8E0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528B-C106-4835-9DA8-DBF351E6C444}" type="slidenum">
              <a:rPr b="0" lang="en-A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200320"/>
            <a:ext cx="80712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 by-law is a local government  rule or regula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-1643040" y="1857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4" descr="C:\Program Files\Microsoft Office\Media\CntCD1\ClipArt6\j0290834.wmf"/>
          <p:cNvPicPr/>
          <p:nvPr/>
        </p:nvPicPr>
        <p:blipFill>
          <a:blip r:embed="rId2"/>
          <a:stretch/>
        </p:blipFill>
        <p:spPr>
          <a:xfrm>
            <a:off x="5143680" y="3429000"/>
            <a:ext cx="3079440" cy="24526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9"/>
          <p:cNvSpPr/>
          <p:nvPr/>
        </p:nvSpPr>
        <p:spPr>
          <a:xfrm>
            <a:off x="1000080" y="5286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Federal means having to do with the Parliament of Australia and/or Australian Govern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4" descr="C:\Program Files\Microsoft Office\Media\CntCD1\ClipArt7\j0300864.wmf"/>
          <p:cNvPicPr/>
          <p:nvPr/>
        </p:nvPicPr>
        <p:blipFill>
          <a:blip r:embed="rId2"/>
          <a:stretch/>
        </p:blipFill>
        <p:spPr>
          <a:xfrm>
            <a:off x="5286240" y="3500280"/>
            <a:ext cx="3036960" cy="19702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6"/>
          <p:cNvSpPr/>
          <p:nvPr/>
        </p:nvSpPr>
        <p:spPr>
          <a:xfrm>
            <a:off x="1214280" y="52149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ye is the word used for voting ‘yes’ in Parlia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2" descr="C:\Program Files\Microsoft Office\Media\CntCD1\ClipArt4\j0242165.wmf"/>
          <p:cNvPicPr/>
          <p:nvPr/>
        </p:nvPicPr>
        <p:blipFill>
          <a:blip r:embed="rId2"/>
          <a:stretch/>
        </p:blipFill>
        <p:spPr>
          <a:xfrm>
            <a:off x="4714920" y="3000240"/>
            <a:ext cx="1928880" cy="28353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85716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 Bill is a proposal for a new law or to modify an existing law that is presented to parlia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714240" y="5143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2" descr="C:\Program Files\Microsoft Office\Media\CntCD1\ClipArt2\j0229705.wmf"/>
          <p:cNvPicPr/>
          <p:nvPr/>
        </p:nvPicPr>
        <p:blipFill>
          <a:blip r:embed="rId2"/>
          <a:stretch/>
        </p:blipFill>
        <p:spPr>
          <a:xfrm>
            <a:off x="5286240" y="4214880"/>
            <a:ext cx="18180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 law is a rule or set of rules recognised by society as bind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571680" y="51436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C:\Program Files\Microsoft Office\Media\CntCD1\ClipArt7\j0339254.wmf"/>
          <p:cNvPicPr/>
          <p:nvPr/>
        </p:nvPicPr>
        <p:blipFill>
          <a:blip r:embed="rId2"/>
          <a:stretch/>
        </p:blipFill>
        <p:spPr>
          <a:xfrm>
            <a:off x="5929200" y="3929040"/>
            <a:ext cx="22147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The Budget is a plan before a Parliament that shows how much money the government expects to collect coming year and how it will spend that money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571680" y="51436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2" descr="d:\Users\rickyt.STAWELL-PS\AppData\Local\Microsoft\Windows\Temporary Internet Files\Content.IE5\G79YU1UT\MCj04398470000[1].wmf"/>
          <p:cNvPicPr/>
          <p:nvPr/>
        </p:nvPicPr>
        <p:blipFill>
          <a:blip r:embed="rId2"/>
          <a:stretch/>
        </p:blipFill>
        <p:spPr>
          <a:xfrm>
            <a:off x="3929040" y="4143240"/>
            <a:ext cx="3092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 vote is a formal expression of a choice, such as putting one’s hand up or making a piece of paper for counting purpos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571680" y="5429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2" descr="d:\Users\rickyt.STAWELL-PS\AppData\Local\Microsoft\Windows\Temporary Internet Files\Content.IE5\WC2335HF\MCj04398410000[1].wmf"/>
          <p:cNvPicPr/>
          <p:nvPr/>
        </p:nvPicPr>
        <p:blipFill>
          <a:blip r:embed="rId2"/>
          <a:stretch/>
        </p:blipFill>
        <p:spPr>
          <a:xfrm>
            <a:off x="5000760" y="3571920"/>
            <a:ext cx="28573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2:25:59Z</dcterms:created>
  <dc:creator>Education</dc:creator>
  <dc:description/>
  <dc:language>en-US</dc:language>
  <cp:lastModifiedBy>Education</cp:lastModifiedBy>
  <dcterms:modified xsi:type="dcterms:W3CDTF">2009-10-22T23:26:04Z</dcterms:modified>
  <cp:revision>6</cp:revision>
  <dc:subject/>
  <dc:title>RULES &amp; LAWS GLOSSARY</dc:title>
</cp:coreProperties>
</file>